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F8A3-CA58-435C-8116-0FD0A26539E5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06196-EF5C-4C23-963B-5D8FC01EFA87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765C7-4121-450B-8750-C44D47F6C1DA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600"/>
            </a:b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600"/>
            </a:b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final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konular = [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Mobil Programlam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Gorsel Programlam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Nesne Tabanli Programlam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Internet Programlam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Veri Tabani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Yapay Zek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Veri Analizi'</a:t>
            </a:r>
            <a:br>
              <a:rPr sz="600"/>
            </a:b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return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appBar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titl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ListView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builde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itemCount: konular.</a:t>
            </a:r>
            <a:r>
              <a:rPr b="0" lang="tr-TR" sz="600" spc="-1" strike="noStrike">
                <a:solidFill>
                  <a:srgbClr val="9876aa"/>
                </a:solidFill>
                <a:latin typeface="Calibri"/>
              </a:rPr>
              <a:t>length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itemBuilder: (context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index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ListTile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  titl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konular[index]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floatingActionButton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FloatingActionButt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backgroundColor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onPressed: () {}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hap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RoundedRectangleBorde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borderRadius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BorderRadius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circula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600" spc="-1" strike="noStrike">
                <a:solidFill>
                  <a:srgbClr val="6897bb"/>
                </a:solidFill>
                <a:latin typeface="Calibri"/>
              </a:rPr>
              <a:t>5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Icon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refresh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16E98-A228-446A-9675-CDBB28EEBE27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3AD4-B92F-43BF-8709-C174012A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95F-0815-480E-B073-84BCBE8D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844-E0AA-4E80-805A-BCA95645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6E1-6BA2-4B79-B0E7-5E077F0C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C61-46E6-4489-A58E-9615ED2C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2B3-4C0E-4F77-8AAD-5C862534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261-7315-4D07-8FEA-4736F93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765-F45F-4BE4-ACFC-E49A235B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8A6-C4A9-491A-8E68-2FCD9D1E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515-1844-4309-A659-04212D0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3EB-796E-4BF1-A47D-D5EFF3EA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914-2AAB-49C3-BF35-356AC75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02CC9-EB08-474A-9E4D-A88D5C9C32D1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61560" y="-304920"/>
            <a:ext cx="3214440" cy="3279600"/>
            <a:chOff x="61560" y="-304920"/>
            <a:chExt cx="3214440" cy="3279600"/>
          </a:xfrm>
        </p:grpSpPr>
        <p:sp>
          <p:nvSpPr>
            <p:cNvPr id="6" name="AutoShape 15"/>
            <p:cNvSpPr/>
            <p:nvPr/>
          </p:nvSpPr>
          <p:spPr>
            <a:xfrm rot="10800000">
              <a:off x="61560" y="-152280"/>
              <a:ext cx="271260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AutoShape 16"/>
            <p:cNvSpPr/>
            <p:nvPr/>
          </p:nvSpPr>
          <p:spPr>
            <a:xfrm rot="10800000">
              <a:off x="217800" y="-304920"/>
              <a:ext cx="305820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Group 13"/>
          <p:cNvGrpSpPr/>
          <p:nvPr/>
        </p:nvGrpSpPr>
        <p:grpSpPr>
          <a:xfrm>
            <a:off x="-2774880" y="-282600"/>
            <a:ext cx="3671640" cy="3097080"/>
            <a:chOff x="-2774880" y="-282600"/>
            <a:chExt cx="3671640" cy="3097080"/>
          </a:xfrm>
        </p:grpSpPr>
        <p:sp>
          <p:nvSpPr>
            <p:cNvPr id="9" name="AutoShape 11"/>
            <p:cNvSpPr/>
            <p:nvPr/>
          </p:nvSpPr>
          <p:spPr>
            <a:xfrm>
              <a:off x="-2220480" y="-136440"/>
              <a:ext cx="311724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-2774880" y="-282600"/>
              <a:ext cx="351432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2"/>
          <p:cNvSpPr/>
          <p:nvPr/>
        </p:nvSpPr>
        <p:spPr>
          <a:xfrm>
            <a:off x="1187280" y="2798640"/>
            <a:ext cx="102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Arial"/>
                <a:ea typeface="Arial"/>
              </a:rPr>
              <a:t>Flutter ile </a:t>
            </a:r>
            <a:r>
              <a:rPr b="1" lang="tr-TR" sz="4400" spc="-1" strike="noStrike">
                <a:solidFill>
                  <a:srgbClr val="04599c"/>
                </a:solidFill>
                <a:latin typeface="Arial"/>
                <a:ea typeface="Arial"/>
              </a:rPr>
              <a:t>Mobil Uygulama Gelişt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2208240" y="3835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99c"/>
                </a:solidFill>
                <a:latin typeface="Arial"/>
                <a:ea typeface="Arial"/>
              </a:rPr>
              <a:t>4</a:t>
            </a:r>
            <a:r>
              <a:rPr b="1" lang="tr-TR" sz="1800" spc="-1" strike="noStrike">
                <a:solidFill>
                  <a:srgbClr val="04599c"/>
                </a:solidFill>
                <a:latin typeface="Arial"/>
                <a:ea typeface="Arial"/>
              </a:rPr>
              <a:t>. Bölü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etin Yer Tutucusu 2"/>
          <p:cNvSpPr/>
          <p:nvPr/>
        </p:nvSpPr>
        <p:spPr>
          <a:xfrm>
            <a:off x="3298680" y="4921200"/>
            <a:ext cx="559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Dr. Sevdanur GEN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https://github.com/SevdanurGE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sim 8" descr=""/>
          <p:cNvPicPr/>
          <p:nvPr/>
        </p:nvPicPr>
        <p:blipFill>
          <a:blip r:embed="rId1"/>
          <a:stretch/>
        </p:blipFill>
        <p:spPr>
          <a:xfrm>
            <a:off x="387360" y="3662280"/>
            <a:ext cx="380520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Execute Only Dart Code After Installing Flutter | by Jean Luc Kabulu |  Flutter Community | Medium"/>
          <p:cNvPicPr/>
          <p:nvPr/>
        </p:nvPicPr>
        <p:blipFill>
          <a:blip r:embed="rId2"/>
          <a:stretch/>
        </p:blipFill>
        <p:spPr>
          <a:xfrm>
            <a:off x="3559320" y="384120"/>
            <a:ext cx="5506920" cy="20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Architecht"/>
          <p:cNvPicPr/>
          <p:nvPr/>
        </p:nvPicPr>
        <p:blipFill>
          <a:blip r:embed="rId3"/>
          <a:stretch/>
        </p:blipFill>
        <p:spPr>
          <a:xfrm>
            <a:off x="8404200" y="4776840"/>
            <a:ext cx="37530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Ajan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599c"/>
                </a:solidFill>
                <a:latin typeface="Calibri"/>
              </a:rPr>
              <a:t>List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Google launches Dart 2.5 with intelligent code completion, Flutter 1.9 with  iOS 13 and macOS Catalina support | VentureBeat"/>
          <p:cNvPicPr/>
          <p:nvPr/>
        </p:nvPicPr>
        <p:blipFill>
          <a:blip r:embed="rId1"/>
          <a:stretch/>
        </p:blipFill>
        <p:spPr>
          <a:xfrm>
            <a:off x="7799400" y="1268280"/>
            <a:ext cx="35542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e5e5e"/>
                </a:solidFill>
                <a:latin typeface="Cabin"/>
              </a:rPr>
              <a:t>ListVie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bin"/>
              </a:rPr>
              <a:t>ListView’i, birden fazla elemanı olan listeler olarak düşünebiliriz. Bu listemiz, sadece yazılardan oluşabildiği gibi, karışık türden verilerle de oluşturulabilir. ListView, birden fazla widget’tan oluştuğu için children a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66" name="Resim 2" descr=""/>
          <p:cNvPicPr/>
          <p:nvPr/>
        </p:nvPicPr>
        <p:blipFill>
          <a:blip r:embed="rId2"/>
          <a:stretch/>
        </p:blipFill>
        <p:spPr>
          <a:xfrm>
            <a:off x="2351160" y="2421000"/>
            <a:ext cx="7902360" cy="432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e5e5e"/>
                </a:solidFill>
                <a:latin typeface="Cabin"/>
              </a:rPr>
              <a:t>ListVie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0" name="Resim 3" descr=""/>
          <p:cNvPicPr/>
          <p:nvPr/>
        </p:nvPicPr>
        <p:blipFill>
          <a:blip r:embed="rId2"/>
          <a:stretch/>
        </p:blipFill>
        <p:spPr>
          <a:xfrm>
            <a:off x="838080" y="1089000"/>
            <a:ext cx="10515600" cy="5700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5e5e5e"/>
                </a:solidFill>
                <a:latin typeface="Cabin"/>
              </a:rPr>
              <a:t>ListVie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4" name="Resim 2" descr=""/>
          <p:cNvPicPr/>
          <p:nvPr/>
        </p:nvPicPr>
        <p:blipFill>
          <a:blip r:embed="rId2"/>
          <a:stretch/>
        </p:blipFill>
        <p:spPr>
          <a:xfrm>
            <a:off x="790560" y="1098720"/>
            <a:ext cx="10611000" cy="568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sim 4" descr=""/>
          <p:cNvPicPr/>
          <p:nvPr/>
        </p:nvPicPr>
        <p:blipFill>
          <a:blip r:embed="rId1"/>
          <a:stretch/>
        </p:blipFill>
        <p:spPr>
          <a:xfrm>
            <a:off x="411120" y="1844640"/>
            <a:ext cx="1135368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22-04-09T05:46:38Z</dcterms:modified>
  <cp:revision>2384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